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png" ContentType="image/pn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4.wmf" ContentType="image/x-wmf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30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</p:sldMasterIdLst>
  <p:notesMasterIdLst>
    <p:notesMasterId r:id="rId27"/>
  </p:notes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  <p:sldId id="270" r:id="rId42"/>
    <p:sldId id="271" r:id="rId4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notesMaster" Target="notesMasters/notesMaster1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slide" Target="slides/slide15.xml"/><Relationship Id="rId43" Type="http://schemas.openxmlformats.org/officeDocument/2006/relationships/slide" Target="slides/slide1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2" name="PlaceHolder 5"/>
          <p:cNvSpPr>
            <a:spLocks noGrp="1"/>
          </p:cNvSpPr>
          <p:nvPr>
            <p:ph type="ftr" idx="53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PlaceHolder 6"/>
          <p:cNvSpPr>
            <a:spLocks noGrp="1"/>
          </p:cNvSpPr>
          <p:nvPr>
            <p:ph type="sldNum" idx="54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5F47-2988-431E-9FD8-4D4B97B9D2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don’t have to be a genius with the top grades to make it throug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gineering school, YOU JUST HAVE TO BE WILLING TO WORK HARD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DF2F-9915-4D25-8218-CD87A457C087}" type="slidenum">
              <a:rPr b="0" lang="en-US" sz="1200" spc="-1" strike="noStrike">
                <a:solidFill>
                  <a:srgbClr val="646464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Y HARD in high school/college = short term gains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he rest of your financial life will suffer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Bad grades equals bad job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 HARD in high school/college = long term gains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Study/dedication to classes has long term financial gains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Good grades equals the best job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llenge yourself in high school/colleg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Study hard to make the best grad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Diversify your activities (sports, clubs, honor societies, social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Volunteer, tutor younger students in your strongest subjec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GET INVOLV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CO-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3D06-51F0-48F0-BC64-480F65CF9205}" type="slidenum">
              <a:rPr b="0" lang="en-US" sz="1200" spc="-1" strike="noStrike">
                <a:solidFill>
                  <a:srgbClr val="646464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ineering is a HIGHLY regarded and relatively HIGHLY compensated career.  Engineers make GREAT salaries relative to the amount of schooling required and the LIFESTYLE offer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32962-B188-4F8E-A297-5A53CC8A0FEA}" type="slidenum">
              <a:rPr b="0" lang="en-US" sz="1200" spc="-1" strike="noStrike">
                <a:solidFill>
                  <a:srgbClr val="646464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117A-EC02-40A8-80E5-DF497BF33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2AB-4BD4-4E24-91EA-2224C0B4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B049-B6AB-4D64-B0AF-DE971C7A3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FC18-A20F-4600-BB4A-D7D2A653A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06A6B-F3D3-45DD-98B1-A6C417968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5D246D-86CC-4DF8-8325-FA8BED4D6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B4AE4-55C2-4079-A719-999D1BB6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0E3E4-8587-4018-B758-BCF26EBC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BC729-6B5C-4A98-BC82-DB0C01A26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39FB41-7566-41A9-9BB5-C8B9A4F5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F7F4C-49B0-40FF-849E-9FDA220BC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D81B2-9E2E-4186-993C-EB5D53C7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3D90-3918-44FE-932D-FE1F08289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E67C5-0789-460D-99CD-0C6663128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173DB-82BE-46DC-82E2-5315E523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2087E-57DB-4898-B01F-271B07A4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9321C-E083-4821-9D34-3F7F45F03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4B0B5-969B-4301-8AE9-4AD550C67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CBE6-A50A-491E-AFD7-5D9A36C0A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71729-A6EB-46C1-80E2-14BCE4E5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EC002-43AD-407F-A644-D5489300E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33CE-34BE-44A4-AE0D-E05BCF0CA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9EB8EA-C077-46CC-916E-DD655F0D6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48E78-C153-4D92-A653-2D5899C41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48BB2-A48E-4EA3-BF9E-3F6BC34E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79FF73-6CB8-4779-A305-F317F407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B82C7-1904-45E1-B513-D3B01227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213ED-BF92-4665-B90F-ABB40E5C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707A1-A8BD-40F2-B0F3-75588C4F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20F24-797D-45DA-A27A-AA6A0447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6994C-64E8-42BA-9C3F-4A34765A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1FE6F-6A07-4F53-BDB5-61267923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43B3D-AEB5-4F42-AA2B-8493246D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EF553-676C-49C9-9BE4-35C1175F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93D5C-13FA-403D-824E-846A3C174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75397-89E0-4F76-95FE-E9E37DA6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7125A-2DB1-48FB-8997-49D349DC8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E920B-A6DE-4708-BBEF-4C6FA2F73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E453D-334F-4DD7-9CDA-1FFDD254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FE4AE-F538-4233-B773-00C53199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E2D63-FAA2-4908-9BBF-30F92D39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0D53E-CD03-44E0-99A5-DD7937BF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9F798-8D0B-46F4-8AF8-5BDA35D1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15DF-ABC0-4E4E-BABD-54EFEB84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6DF8F-E7F2-4D2C-9360-F323CD38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38A78E-F283-4C71-8537-3C3A96EB9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71165-17F7-4D5B-B445-14AAED54A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4DCD9F-DA18-4F62-9129-EA91C1B3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91795-9791-44EA-B730-B45DEBE87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EC4CA-EBA9-4CDA-AC89-81D67963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8756D2-247B-43F5-84AD-308555B7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697E68-F261-4F59-A9CB-EBA7F345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C68272-6822-4932-A514-51FED390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B6E09-AE35-4265-BE6D-11E6EC81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798-3451-48D5-89DE-8574CDA1C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7F40-7EBD-4844-BCA3-DCC14375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306DF0-05CF-48FA-B86E-D3E4D7154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B760D-04FA-4CC2-9005-3FDF76D1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D4F80A-FF43-4638-B6CB-4C00C16E6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0635D-1DC9-427C-A2CA-D14813A32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2907C-62C6-4BC4-8C53-B58D15A97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40D6F-AEAA-4E1B-A191-2C0AB19C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D7C63-2F2D-4EFE-8AD3-FF80CE6D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B115B-4D05-4465-BBDA-6A3E577F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37F82B-4EC4-4CD0-BF98-2872A83B0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39CCA-E3E4-4FC9-BA2F-D03BAA0E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A1FD0-676F-408A-91E8-7708786DD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EFE1F9-ED16-4D91-A99F-9E9DB7629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3A9550-D181-4DF5-8B61-0F6B3561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2B6A5-079E-4B41-804B-5E872F66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DC66E9-800A-477B-AAE7-07CF7FF3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54853-C820-4341-B257-BE7439B1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3E37D-C6A2-42F4-845E-C88A82F13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6C62AD-3D80-4FC5-BEB0-A6FEA576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B8521-6F77-43DC-8D9A-7209A7F3D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35E362-B72B-4C08-8C75-614935EB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4F4E2F-4930-45B7-8C86-7C690413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082F-07F3-4B37-A7D1-23AB0A87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D1C39-DC15-4573-B430-E331C4E5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2CB135-36D3-4F2D-8C73-31C698B1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C7DB74-3746-4222-A8EE-27977A6EF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F74CB-D70C-4E39-96D4-F11F177D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CCE392-37CC-4029-B5B2-B2DFDC10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D022F2-3612-4787-9799-FBC4F62D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EDB0B-B4AD-4763-9DAA-5EFB5997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D7EC8-D26C-4568-A77C-E96E9EF83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71B3C-8FFA-438E-AC02-5742C383C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0A46B3-CB57-4B7A-BC19-3D43D5D4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15B35-14F1-4521-921C-E297BB503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ED3249-A675-444A-8E7A-896309C1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E87845-B9A5-4D66-9E41-FE47413E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EF5CA5-2BD4-45E5-AB8F-6DEF8FDF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3E38C2-B477-45D7-81FB-9C9029C2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1ED0DB-8EA3-49AA-A2B7-E6D896E56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9566A2-C177-4F97-8AE2-192C105D6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89CFB-B2D6-402A-BC62-7BE2D000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7672C3-4374-4E49-880E-B480ACF6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80294E-6154-4EFC-8812-624E611B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99C7F5-0033-42DF-8FFF-77E0CDC25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380BF-6A97-4E10-B5F7-9B6019060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57896F-48F4-44D0-B410-1DEB1D73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A33EB3-A941-470B-BDD8-03DD602F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DF85AE-1083-4BDF-9C52-02BDA4AC1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ABB4A4-EF25-41E6-8BAB-FFE701B5A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5501B8-CAD5-4C4B-9945-E8E494E85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57B25A-EEE4-4F61-978A-0FFEE273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01918-9EF5-4122-BEBF-7238473D2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067190-6EB0-4EB0-B6B4-032D888A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DB20B7-F092-45A5-BD69-A881CB79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C3F6EB-E287-4CE9-8C81-8F031B06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F553C-D75B-42B3-8934-41C292A5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ACC91C-DD47-4103-94D3-16693C0B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E6655B-8E6C-49BF-AB01-92F367EBE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F5374-4A8D-4BED-BCB2-D24F27E68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C27D666-4CF9-4473-A9A2-4913CEFA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D643FA8-2F08-4216-92DF-04680735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9B30068-6633-44F2-BDB5-B6CD5156A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8059084-B307-4644-9E6F-3449009E3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EA61D2A-1411-4F86-AA51-505AC9F2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53C8970-6D11-4498-A4C2-C0A27530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AFAD6B4-A590-4628-B7B4-51233470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74F8E-8348-480F-AB9E-76A12AD72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63CBA27-C187-40D2-9D1D-F2F4A037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2386C3B-631D-43C8-853F-5C7C0F0F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D080665-AE47-4F6D-ABAC-F8D657F6D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9DFE4CC-9F59-4C36-9A43-A9AFA9493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25558E7-E102-49FF-9DDD-8307E11B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5CFF817-467B-44AF-9ABE-D65942751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95E4773-A283-4A33-B81D-69448A97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D60E60B-C671-4C27-AC4B-51640987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B25303F-476F-415F-96B3-87F305E0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5D156DA-C1E8-4D6E-9F8D-97D5545C6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75D24-317E-44AF-BDBE-EABBF4EFF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24D7EAF-23BF-4175-98B5-702AB5A1A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10D9C6E-42DC-439A-8D68-B5847B9E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F33705A-A43B-482F-AF8B-95EA96329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1C92C55-579C-443C-B65A-7CBF598F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424D49C-91FB-4ABB-9C50-02CEC6F5D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E669B36-909E-41EE-8BF8-932864F9B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D2708F9-1D0F-48AA-A9CB-423EF7A4D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87BC7B-560E-4C21-BF4A-BBA13D1B2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C6DE64-7ABE-45EF-8EBC-1CE1BA10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C17551-C462-4647-B0B7-5B1436185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8EDD9-B74D-45E5-8E85-3602958F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66A34B-910D-4C89-8C47-E7C4556CC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E9ACA0-0544-4A3E-88C2-4A2850984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3B5D0E-9634-4281-8C5E-4AB759AD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D102EE-0E6E-4E4A-BDF3-E212972B3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5D06814-8601-4165-8931-4D202CBB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5CC677-709A-4A26-BE2F-670ACD90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0A0EA9-FE78-4671-8870-45B7B73A6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665A61-0347-4D67-972E-CBD154EC0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B6507-85D1-4C1B-AF5C-BC52FA8F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A2A7D85-48DF-4745-92B6-42D0B9EC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3059A-CBCE-48BF-8ACF-3559A346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CA23606-826F-48A6-8705-FED8509B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3E178FC-B54E-4F48-A896-90C9DA871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968EB8A-1ED6-4E73-A6A2-F5FBFE12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2F52ECF-C0A3-4D9B-9F28-144D223F4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D3D7B7F-12F3-4544-A5CA-636EC3A1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15E2D93-A81E-45E3-9F51-BF3B9C82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2806F56-81F6-487F-8DCC-F09D1098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83F01EC-DCD8-4B48-B968-48246C5B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9B0812B-2256-4A13-8026-30C5AEE09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9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8BC7E91-A231-4135-84B7-8922DEDD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CF2B-3D5A-4A43-847E-07092239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4E10C-AACD-4BCF-B676-2F338D1C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5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6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ED6373F-4D1E-4181-86C0-BAE70A688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3ECC3-E9AA-474E-86F2-AB23C082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C22D1-A2DA-4B13-BDF9-4E65F2DF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7978A-C85C-4851-B580-F7FAC58F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824FB-9663-4AC9-938A-1622632B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90241-BEC8-494C-A790-C4D19A0DA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BD3AC-AA8D-451C-A9F4-6A7150DF7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D1D3A-842F-48CB-9EB0-F5F49581D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904B4-F480-444C-A102-401720F9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414D0-2C21-408E-B634-2BB27D0CB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98CE-6E6A-446E-8413-C22CAFEFD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BE2E0-C4B7-40FC-A50E-6EA5E8B42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F5EEC-4CF7-4160-B59F-B35E010A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418F2-F255-4510-AA34-0A5FFDD4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883D6-A095-413F-8791-9AD4BCF0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325DE-0458-46FB-937A-FC9F2904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67D90-1560-4ED8-BE86-67E82AAE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214D8-0FF8-45B8-B532-36ED84794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94613-FAF9-45C7-80F5-D4FC7B605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F4AB6-2485-4D3B-83A5-C7A254D43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37480-3923-495B-9596-E5881F7E5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D9E2-6C2B-450F-8F29-6F4907E4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F61C5-332E-4DE3-A09D-920C8C1B6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DAEBC-A376-4692-A576-6036851D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6D3593-9F46-4CA2-9326-14A242F8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A183E-D221-440A-B591-C972E3E9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DECB5-847F-44CB-A9A8-E6487A8E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078E6D-C754-4A8E-A1F0-983EBA4C8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FF577C-771C-48F4-B2C0-6834852B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60757-BE31-484A-92AB-EC2E4008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EF33AD-2CC5-4879-A447-A8D10080C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114FE-A049-4667-8951-1CF3F623E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D847-95FC-40DE-912A-989CDE9AE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40133-E01A-4BD3-949D-ABF2AD88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303A-AA4A-4C48-BB99-8D1DDD255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67AF-EC36-49B4-8ADC-5D51B1DC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CF2B-47CA-454C-BABB-E6669295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blue small"/>
          <p:cNvPicPr/>
          <p:nvPr/>
        </p:nvPicPr>
        <p:blipFill>
          <a:blip r:embed="rId2"/>
          <a:stretch/>
        </p:blipFill>
        <p:spPr>
          <a:xfrm>
            <a:off x="0" y="5238720"/>
            <a:ext cx="9144000" cy="1619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044520" y="6356520"/>
            <a:ext cx="297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dt" idx="2"/>
          </p:nvPr>
        </p:nvSpPr>
        <p:spPr>
          <a:xfrm>
            <a:off x="1006560" y="6356520"/>
            <a:ext cx="137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7200" y="635652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EC4BB-C763-455E-B718-5B802995DE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Eastman_PNG.png"/>
          <p:cNvPicPr/>
          <p:nvPr/>
        </p:nvPicPr>
        <p:blipFill>
          <a:blip r:embed="rId3"/>
          <a:stretch/>
        </p:blipFill>
        <p:spPr>
          <a:xfrm>
            <a:off x="7178760" y="6381720"/>
            <a:ext cx="1673280" cy="25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2" descr="bright 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1" descr="Eastman_PNG.png"/>
          <p:cNvPicPr/>
          <p:nvPr/>
        </p:nvPicPr>
        <p:blipFill>
          <a:blip r:embed="rId3"/>
          <a:stretch/>
        </p:blipFill>
        <p:spPr>
          <a:xfrm>
            <a:off x="6477120" y="380880"/>
            <a:ext cx="2404800" cy="35892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807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10" descr="blu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807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Picture 4" descr="small gray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9" descr="Eastman_PNG.png"/>
          <p:cNvPicPr/>
          <p:nvPr/>
        </p:nvPicPr>
        <p:blipFill>
          <a:blip r:embed="rId3"/>
          <a:stretch/>
        </p:blipFill>
        <p:spPr>
          <a:xfrm>
            <a:off x="7178760" y="384120"/>
            <a:ext cx="1673280" cy="24912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807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17"/>
          </p:nvPr>
        </p:nvSpPr>
        <p:spPr>
          <a:xfrm>
            <a:off x="3044520" y="6356520"/>
            <a:ext cx="297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18"/>
          </p:nvPr>
        </p:nvSpPr>
        <p:spPr>
          <a:xfrm>
            <a:off x="68580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185B5-6839-440D-AFFA-C1F4504D8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bright 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12" descr="Eastman_PNG.png"/>
          <p:cNvPicPr/>
          <p:nvPr/>
        </p:nvPicPr>
        <p:blipFill>
          <a:blip r:embed="rId3"/>
          <a:stretch/>
        </p:blipFill>
        <p:spPr>
          <a:xfrm>
            <a:off x="6477120" y="380880"/>
            <a:ext cx="2404800" cy="35892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11" descr="blu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582" name="Rectangle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583" name="Rectangle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584" name="Rectangle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585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586" name="Straight Connector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587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588" name="Oval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589" name="Oval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21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CF09-3A01-41F2-A562-0915AC924640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32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33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34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35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36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37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38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39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24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1205-98CD-4240-A755-5BB25C777144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82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83" name="Rectangle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84" name="Rectangle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85" name="Rectangle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86" name="Rectangle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87" name="Rectangle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88" name="Rectangle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89" name="Straight Connector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90" name="Oval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91" name="Oval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 type="ftr" idx="2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 type="sldNum" idx="27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8278-93B9-458C-9A87-0C30163005DB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34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35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36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37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38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39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40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41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42" name="Straight Connector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28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29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30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1CB1-706C-4968-873E-4422953F38EE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Straight Connector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1f497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85" name="Rectangle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86" name="Rectangle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87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88" name="Rectangle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89" name="Rectangle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90" name="Rectangle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91" name="Straight Connector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92" name="Rectangle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93" name="Oval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94" name="Oval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8B54-80C5-498F-8D01-09FDFF65AF0E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blue small section"/>
          <p:cNvPicPr/>
          <p:nvPr/>
        </p:nvPicPr>
        <p:blipFill>
          <a:blip r:embed="rId2"/>
          <a:stretch/>
        </p:blipFill>
        <p:spPr>
          <a:xfrm>
            <a:off x="0" y="3267000"/>
            <a:ext cx="9144000" cy="3591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807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044520" y="6356520"/>
            <a:ext cx="297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4572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8580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3B9F-8DB2-4966-917D-CFEB38A409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10" descr="Eastman_PNG.png"/>
          <p:cNvPicPr/>
          <p:nvPr/>
        </p:nvPicPr>
        <p:blipFill>
          <a:blip r:embed="rId3"/>
          <a:stretch/>
        </p:blipFill>
        <p:spPr>
          <a:xfrm>
            <a:off x="7178760" y="380880"/>
            <a:ext cx="1673280" cy="24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37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38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39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40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41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42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43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44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3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3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36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6C5B-76E0-4F07-A815-116473B226CD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87" name="Rectangle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88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89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90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91" name="Rectangle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 type="dt" idx="3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 type="ftr" idx="3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 type="sldNum" idx="39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49D5-3556-474E-9A25-B494A71B93A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34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35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36" name="Rectangle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37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38" name="Rectangle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39" name="Rectangle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40" name="Straight Connector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41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42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43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 type="sldNum" idx="4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C80D-E937-4487-832F-6B78FE8344F0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 type="dt" idx="4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 type="ftr" idx="42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Straight Connector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86" name="Rectangle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87" name="Rectangle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88" name="Rectangle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89" name="Rectangle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90" name="Rectangle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91" name="Rectangle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92" name="Rectangle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93" name="Oval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94" name="Oval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95" name="Rectangle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 type="sldNum" idx="43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1016-2A00-4780-A351-FA19F36290E1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 type="dt" idx="44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 type="ftr" idx="45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38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39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40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41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42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43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44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45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 type="dt" idx="4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 type="ftr" idx="47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 type="sldNum" idx="48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BD91-264D-463D-819E-092D99A12D0E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88" name="Rectangle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89" name="Rectangle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90" name="Rectangle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91" name="Rectangle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92" name="Rectangle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93" name="Straight Connector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94" name="Oval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95" name="Oval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 type="sldNum" idx="49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E47D-A811-4F4D-9574-237661898581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 type="dt" idx="50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 type="ftr" idx="51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small gray"/>
          <p:cNvPicPr/>
          <p:nvPr/>
        </p:nvPicPr>
        <p:blipFill>
          <a:blip r:embed="rId2"/>
          <a:stretch/>
        </p:blipFill>
        <p:spPr>
          <a:xfrm>
            <a:off x="0" y="5715000"/>
            <a:ext cx="9144000" cy="1143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807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3044520" y="6356520"/>
            <a:ext cx="297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8"/>
          </p:nvPr>
        </p:nvSpPr>
        <p:spPr>
          <a:xfrm>
            <a:off x="4572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8580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181B-1C69-4A81-8413-48C27DE3C2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9" descr="Eastman_PNG.png"/>
          <p:cNvPicPr/>
          <p:nvPr/>
        </p:nvPicPr>
        <p:blipFill>
          <a:blip r:embed="rId3"/>
          <a:stretch/>
        </p:blipFill>
        <p:spPr>
          <a:xfrm>
            <a:off x="7178760" y="384120"/>
            <a:ext cx="1673280" cy="249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blue small"/>
          <p:cNvPicPr/>
          <p:nvPr/>
        </p:nvPicPr>
        <p:blipFill>
          <a:blip r:embed="rId2"/>
          <a:stretch/>
        </p:blipFill>
        <p:spPr>
          <a:xfrm>
            <a:off x="0" y="0"/>
            <a:ext cx="9144000" cy="1619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ftr" idx="10"/>
          </p:nvPr>
        </p:nvSpPr>
        <p:spPr>
          <a:xfrm>
            <a:off x="3044520" y="6356520"/>
            <a:ext cx="2971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dt" idx="11"/>
          </p:nvPr>
        </p:nvSpPr>
        <p:spPr>
          <a:xfrm>
            <a:off x="4572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858000" y="635652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28E3-901B-4583-AAB9-142C85E53C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0" descr="Eastman_PNG.png"/>
          <p:cNvPicPr/>
          <p:nvPr/>
        </p:nvPicPr>
        <p:blipFill>
          <a:blip r:embed="rId3"/>
          <a:stretch/>
        </p:blipFill>
        <p:spPr>
          <a:xfrm>
            <a:off x="7178760" y="380880"/>
            <a:ext cx="1673280" cy="24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75" name="Rectangle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dt" idx="13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80" name="Straight Connector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8a44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82" name="Ov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8a4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8a44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D6A7-CF2F-4D6A-8382-5E8428DB4C55}" type="slidenum">
              <a:rPr b="0" lang="en-US" sz="1600" spc="-1" strike="noStrike">
                <a:solidFill>
                  <a:srgbClr val="88a44d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8a44d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0504d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bbb5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064a2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4bacc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bright 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2" descr="Eastman_PNG.png"/>
          <p:cNvPicPr/>
          <p:nvPr/>
        </p:nvPicPr>
        <p:blipFill>
          <a:blip r:embed="rId3"/>
          <a:stretch/>
        </p:blipFill>
        <p:spPr>
          <a:xfrm>
            <a:off x="6477120" y="380880"/>
            <a:ext cx="2404800" cy="3589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11" descr="blu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2" descr="bright blu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2" descr="Eastman_PNG.png"/>
          <p:cNvPicPr/>
          <p:nvPr/>
        </p:nvPicPr>
        <p:blipFill>
          <a:blip r:embed="rId3"/>
          <a:stretch/>
        </p:blipFill>
        <p:spPr>
          <a:xfrm>
            <a:off x="6477120" y="380880"/>
            <a:ext cx="2404800" cy="3589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807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11" descr="blu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5807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646464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646464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1" marL="684360" indent="-22716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b8e4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3" marL="1546200" indent="-174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b8e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646464"/>
              </a:buClr>
              <a:buSzPct val="1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4646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24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8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Title 1"/>
          <p:cNvSpPr/>
          <p:nvPr/>
        </p:nvSpPr>
        <p:spPr>
          <a:xfrm>
            <a:off x="685800" y="969840"/>
            <a:ext cx="777240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4f81bd"/>
                </a:solidFill>
                <a:latin typeface="Arial"/>
                <a:ea typeface="Arial"/>
              </a:rPr>
              <a:t>What is Engineering?</a:t>
            </a:r>
            <a:endParaRPr b="0" lang="en-US" sz="42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45" name="TextBox 2"/>
          <p:cNvSpPr/>
          <p:nvPr/>
        </p:nvSpPr>
        <p:spPr>
          <a:xfrm>
            <a:off x="5699160" y="5891040"/>
            <a:ext cx="318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Engineering Week 2011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Text Box 6"/>
          <p:cNvSpPr/>
          <p:nvPr/>
        </p:nvSpPr>
        <p:spPr>
          <a:xfrm>
            <a:off x="304560" y="235080"/>
            <a:ext cx="3600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Civil Engineering</a:t>
            </a:r>
            <a:endParaRPr b="0" lang="en-US" sz="33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89" name="Rectangle 7"/>
          <p:cNvSpPr/>
          <p:nvPr/>
        </p:nvSpPr>
        <p:spPr>
          <a:xfrm>
            <a:off x="1066680" y="1295280"/>
            <a:ext cx="72662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90" name="Rectangle 8"/>
          <p:cNvSpPr/>
          <p:nvPr/>
        </p:nvSpPr>
        <p:spPr>
          <a:xfrm>
            <a:off x="281160" y="1093680"/>
            <a:ext cx="4705200" cy="22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Arial"/>
              </a:rPr>
              <a:t>Create solutions to cope with:</a:t>
            </a: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 quality issue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aying cities, roadways and bridge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gged airports and highway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6858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lluted streams, rivers and lake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91" name="Rectangle 8"/>
          <p:cNvSpPr/>
          <p:nvPr/>
        </p:nvSpPr>
        <p:spPr>
          <a:xfrm>
            <a:off x="468360" y="5446800"/>
            <a:ext cx="8324640" cy="703800"/>
          </a:xfrm>
          <a:prstGeom prst="rect">
            <a:avLst/>
          </a:prstGeom>
          <a:solidFill>
            <a:srgbClr val="4f81b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solutions to cope with many of our planet’s most serious problems. 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  <p:pic>
        <p:nvPicPr>
          <p:cNvPr id="1192" name="Picture 9" descr="C:\Users\u770837\AppData\Local\Microsoft\Windows\Temporary Internet Files\Low\Content.IE5\BWYO7QX7\82558026[2].jpg"/>
          <p:cNvPicPr/>
          <p:nvPr/>
        </p:nvPicPr>
        <p:blipFill>
          <a:blip r:embed="rId1"/>
          <a:stretch/>
        </p:blipFill>
        <p:spPr>
          <a:xfrm>
            <a:off x="5730840" y="1093680"/>
            <a:ext cx="241452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Text Box 6"/>
          <p:cNvSpPr/>
          <p:nvPr/>
        </p:nvSpPr>
        <p:spPr>
          <a:xfrm>
            <a:off x="245160" y="235080"/>
            <a:ext cx="4601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Industrial Engineering</a:t>
            </a:r>
            <a:endParaRPr b="0" lang="en-US" sz="33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94" name="Rectangle 7"/>
          <p:cNvSpPr/>
          <p:nvPr/>
        </p:nvSpPr>
        <p:spPr>
          <a:xfrm>
            <a:off x="1066680" y="1295280"/>
            <a:ext cx="72662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95" name="Rectangle 8"/>
          <p:cNvSpPr/>
          <p:nvPr/>
        </p:nvSpPr>
        <p:spPr>
          <a:xfrm>
            <a:off x="344520" y="965160"/>
            <a:ext cx="4408560" cy="241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3504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data processing system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63504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activities of finance, engineering and management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63504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systems for planning, cost analysis, production and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marL="635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quality of product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96" name="Rectangle 13"/>
          <p:cNvSpPr/>
          <p:nvPr/>
        </p:nvSpPr>
        <p:spPr>
          <a:xfrm>
            <a:off x="468360" y="5299200"/>
            <a:ext cx="8324640" cy="1008720"/>
          </a:xfrm>
          <a:prstGeom prst="rect">
            <a:avLst/>
          </a:prstGeom>
          <a:solidFill>
            <a:srgbClr val="4f81b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resses design, improvement, and installation of integrated systems of people, material, and equipment for the effective production of goods or services in all types of industrie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  <p:pic>
        <p:nvPicPr>
          <p:cNvPr id="1197" name="Picture 12" descr="C:\Users\u770837\AppData\Local\Microsoft\Windows\Temporary Internet Files\Low\Content.IE5\BWYO7QX7\87461647[3].jpg"/>
          <p:cNvPicPr/>
          <p:nvPr/>
        </p:nvPicPr>
        <p:blipFill>
          <a:blip r:embed="rId1"/>
          <a:stretch/>
        </p:blipFill>
        <p:spPr>
          <a:xfrm>
            <a:off x="5184720" y="1446120"/>
            <a:ext cx="3129120" cy="23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8" name="Picture 9" descr="http://168.136.161.196/netpub/server.np?original=17709&amp;site=Image_Search&amp;catalog=catalog"/>
          <p:cNvPicPr/>
          <p:nvPr/>
        </p:nvPicPr>
        <p:blipFill>
          <a:blip r:embed="rId1"/>
          <a:srcRect l="16806" t="6111" r="16080" b="6557"/>
          <a:stretch/>
        </p:blipFill>
        <p:spPr>
          <a:xfrm>
            <a:off x="4710240" y="1946160"/>
            <a:ext cx="4168800" cy="3613320"/>
          </a:xfrm>
          <a:prstGeom prst="rect">
            <a:avLst/>
          </a:prstGeom>
          <a:ln w="0">
            <a:noFill/>
          </a:ln>
        </p:spPr>
      </p:pic>
      <p:sp>
        <p:nvSpPr>
          <p:cNvPr id="1199" name="Text Box 6"/>
          <p:cNvSpPr/>
          <p:nvPr/>
        </p:nvSpPr>
        <p:spPr>
          <a:xfrm>
            <a:off x="286920" y="235080"/>
            <a:ext cx="53485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Good Traits for Engineers</a:t>
            </a:r>
            <a:endParaRPr b="0" lang="en-US" sz="33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200" name="Rectangle 7"/>
          <p:cNvSpPr/>
          <p:nvPr/>
        </p:nvSpPr>
        <p:spPr>
          <a:xfrm>
            <a:off x="1143000" y="1371600"/>
            <a:ext cx="72658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201" name="Rectangle 8"/>
          <p:cNvSpPr/>
          <p:nvPr/>
        </p:nvSpPr>
        <p:spPr>
          <a:xfrm>
            <a:off x="366840" y="958680"/>
            <a:ext cx="6448320" cy="36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Enjoy solving problems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Like working with other people (strong teamwork skills)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Interested in serving human needs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Want to make things work better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Strive for continual improvement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Able to adapt to a changing environment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Good communication skills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Strong study skills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Desire to constantly learn new things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Data analysis skills 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Strong computer skills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Text Box 1030"/>
          <p:cNvSpPr/>
          <p:nvPr/>
        </p:nvSpPr>
        <p:spPr>
          <a:xfrm>
            <a:off x="214560" y="257040"/>
            <a:ext cx="6516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College Entrance Requirements</a:t>
            </a:r>
            <a:endParaRPr b="0" lang="en-US" sz="3300" spc="-1" strike="noStrike">
              <a:solidFill>
                <a:srgbClr val="646464"/>
              </a:solidFill>
              <a:latin typeface="Arial Narrow"/>
            </a:endParaRPr>
          </a:p>
        </p:txBody>
      </p:sp>
      <p:graphicFrame>
        <p:nvGraphicFramePr>
          <p:cNvPr id="1203" name=""/>
          <p:cNvGraphicFramePr/>
          <p:nvPr/>
        </p:nvGraphicFramePr>
        <p:xfrm>
          <a:off x="615960" y="1046160"/>
          <a:ext cx="7623000" cy="2225520"/>
        </p:xfrm>
        <a:graphic>
          <a:graphicData uri="http://schemas.openxmlformats.org/drawingml/2006/table">
            <a:tbl>
              <a:tblPr/>
              <a:tblGrid>
                <a:gridCol w="3811680"/>
                <a:gridCol w="3811320"/>
              </a:tblGrid>
              <a:tr h="3715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quired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lgebra I &amp; II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eometry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igonometry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culu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ysic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mistry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uter Programming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cial Studie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oreign Language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e Arts/Humanitie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4" name=""/>
          <p:cNvGraphicFramePr/>
          <p:nvPr/>
        </p:nvGraphicFramePr>
        <p:xfrm>
          <a:off x="620640" y="3643200"/>
          <a:ext cx="7623360" cy="1113120"/>
        </p:xfrm>
        <a:graphic>
          <a:graphicData uri="http://schemas.openxmlformats.org/drawingml/2006/table">
            <a:tbl>
              <a:tblPr/>
              <a:tblGrid>
                <a:gridCol w="3811680"/>
                <a:gridCol w="3811680"/>
              </a:tblGrid>
              <a:tr h="37152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ighly Recommended – Not Required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 Chemistry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 Physics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 Calculus 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P Biology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205" name="TextBox 14"/>
          <p:cNvSpPr/>
          <p:nvPr/>
        </p:nvSpPr>
        <p:spPr>
          <a:xfrm>
            <a:off x="477720" y="5327640"/>
            <a:ext cx="8251920" cy="642600"/>
          </a:xfrm>
          <a:prstGeom prst="rect">
            <a:avLst/>
          </a:prstGeom>
          <a:solidFill>
            <a:srgbClr val="4f81b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ny Advanced Placement classes really help prepare you for college and in most cases drastically help “lighten your load.”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Text Box 6"/>
          <p:cNvSpPr/>
          <p:nvPr/>
        </p:nvSpPr>
        <p:spPr>
          <a:xfrm>
            <a:off x="426240" y="246240"/>
            <a:ext cx="31845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College Advice</a:t>
            </a:r>
            <a:endParaRPr b="0" lang="en-US" sz="33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207" name="Rectangle 7"/>
          <p:cNvSpPr/>
          <p:nvPr/>
        </p:nvSpPr>
        <p:spPr>
          <a:xfrm>
            <a:off x="1066680" y="1295280"/>
            <a:ext cx="72662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208" name="Rectangle 13"/>
          <p:cNvSpPr/>
          <p:nvPr/>
        </p:nvSpPr>
        <p:spPr>
          <a:xfrm>
            <a:off x="731880" y="4735440"/>
            <a:ext cx="8001000" cy="642600"/>
          </a:xfrm>
          <a:prstGeom prst="rect">
            <a:avLst/>
          </a:prstGeom>
          <a:solidFill>
            <a:srgbClr val="4f81b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next 2-3 years in high school and especially the following 4-8 years in college drastically impact the quality of your adult life!!!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</p:txBody>
      </p:sp>
      <p:pic>
        <p:nvPicPr>
          <p:cNvPr id="1209" name="Picture 2" descr="C:\Users\u770837\AppData\Local\Microsoft\Windows\Temporary Internet Files\Low\Content.IE5\NQHDIBVV\87715729[1].jpg"/>
          <p:cNvPicPr/>
          <p:nvPr/>
        </p:nvPicPr>
        <p:blipFill>
          <a:blip r:embed="rId1"/>
          <a:srcRect l="0" t="0" r="-6436" b="0"/>
          <a:stretch/>
        </p:blipFill>
        <p:spPr>
          <a:xfrm>
            <a:off x="500040" y="1187280"/>
            <a:ext cx="3635280" cy="2271960"/>
          </a:xfrm>
          <a:prstGeom prst="rect">
            <a:avLst/>
          </a:prstGeom>
          <a:ln w="0">
            <a:noFill/>
          </a:ln>
        </p:spPr>
      </p:pic>
      <p:pic>
        <p:nvPicPr>
          <p:cNvPr id="1210" name="TextBox 11" descr=""/>
          <p:cNvPicPr/>
          <p:nvPr/>
        </p:nvPicPr>
        <p:blipFill>
          <a:blip r:embed="rId2"/>
          <a:stretch/>
        </p:blipFill>
        <p:spPr>
          <a:xfrm>
            <a:off x="628560" y="3333600"/>
            <a:ext cx="3048120" cy="1019160"/>
          </a:xfrm>
          <a:prstGeom prst="rect">
            <a:avLst/>
          </a:prstGeom>
          <a:ln w="0">
            <a:noFill/>
          </a:ln>
        </p:spPr>
      </p:pic>
      <p:pic>
        <p:nvPicPr>
          <p:cNvPr id="1211" name="TextBox 13" descr=""/>
          <p:cNvPicPr/>
          <p:nvPr/>
        </p:nvPicPr>
        <p:blipFill>
          <a:blip r:embed="rId3"/>
          <a:stretch/>
        </p:blipFill>
        <p:spPr>
          <a:xfrm>
            <a:off x="6072120" y="3333600"/>
            <a:ext cx="2644920" cy="1019160"/>
          </a:xfrm>
          <a:prstGeom prst="rect">
            <a:avLst/>
          </a:prstGeom>
          <a:ln w="0">
            <a:noFill/>
          </a:ln>
        </p:spPr>
      </p:pic>
      <p:pic>
        <p:nvPicPr>
          <p:cNvPr id="1212" name="Picture 3" descr="C:\Users\u770837\AppData\Local\Microsoft\Windows\Temporary Internet Files\Low\Content.IE5\5K9T5FMV\78655190[1].jpg"/>
          <p:cNvPicPr/>
          <p:nvPr/>
        </p:nvPicPr>
        <p:blipFill>
          <a:blip r:embed="rId4"/>
          <a:srcRect l="0" t="0" r="5380" b="0"/>
          <a:stretch/>
        </p:blipFill>
        <p:spPr>
          <a:xfrm>
            <a:off x="5486400" y="1123920"/>
            <a:ext cx="3232080" cy="2271600"/>
          </a:xfrm>
          <a:prstGeom prst="rect">
            <a:avLst/>
          </a:prstGeom>
          <a:ln w="0">
            <a:noFill/>
          </a:ln>
        </p:spPr>
      </p:pic>
      <p:pic>
        <p:nvPicPr>
          <p:cNvPr id="1213" name="Rectangle 15" descr=""/>
          <p:cNvPicPr/>
          <p:nvPr/>
        </p:nvPicPr>
        <p:blipFill>
          <a:blip r:embed="rId5"/>
          <a:stretch/>
        </p:blipFill>
        <p:spPr>
          <a:xfrm>
            <a:off x="4237200" y="3333600"/>
            <a:ext cx="146844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Text Box 6"/>
          <p:cNvSpPr/>
          <p:nvPr/>
        </p:nvSpPr>
        <p:spPr>
          <a:xfrm>
            <a:off x="284040" y="277920"/>
            <a:ext cx="4745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Cooperative Education</a:t>
            </a:r>
            <a:endParaRPr b="0" lang="en-US" sz="33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215" name="Rectangle 13"/>
          <p:cNvSpPr/>
          <p:nvPr/>
        </p:nvSpPr>
        <p:spPr>
          <a:xfrm>
            <a:off x="657360" y="1003320"/>
            <a:ext cx="8001000" cy="699840"/>
          </a:xfrm>
          <a:prstGeom prst="rect">
            <a:avLst/>
          </a:prstGeom>
          <a:solidFill>
            <a:srgbClr val="4f81b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 a five year program with alternating periods of book learning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chool) and application (work, typically in industry).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</p:txBody>
      </p:sp>
      <p:graphicFrame>
        <p:nvGraphicFramePr>
          <p:cNvPr id="1216" name=""/>
          <p:cNvGraphicFramePr/>
          <p:nvPr/>
        </p:nvGraphicFramePr>
        <p:xfrm>
          <a:off x="615960" y="1971720"/>
          <a:ext cx="8028000" cy="2225520"/>
        </p:xfrm>
        <a:graphic>
          <a:graphicData uri="http://schemas.openxmlformats.org/drawingml/2006/table">
            <a:tbl>
              <a:tblPr/>
              <a:tblGrid>
                <a:gridCol w="2006640"/>
                <a:gridCol w="2008080"/>
                <a:gridCol w="2006640"/>
                <a:gridCol w="20066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Year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Fal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pring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Summer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ork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ool</a:t>
                      </a:r>
                      <a:endParaRPr b="0" lang="en-US" sz="18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217" name="Rectangle 8"/>
          <p:cNvSpPr/>
          <p:nvPr/>
        </p:nvSpPr>
        <p:spPr>
          <a:xfrm>
            <a:off x="500040" y="4406760"/>
            <a:ext cx="819792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Arial"/>
              </a:rPr>
              <a:t>Benefits of a Cooperative Education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Pay for your college education ($36,000/YR or more)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Gain valuable experience, real engineering work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Increase your market value at graduation (considerably)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Usually assures job offer from co-op company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646464"/>
                </a:solidFill>
                <a:latin typeface="Arial"/>
              </a:rPr>
              <a:t>Offers well deserved and beneficial break from school!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Text Box 6"/>
          <p:cNvSpPr/>
          <p:nvPr/>
        </p:nvSpPr>
        <p:spPr>
          <a:xfrm>
            <a:off x="401760" y="225360"/>
            <a:ext cx="2091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Summary</a:t>
            </a:r>
            <a:endParaRPr b="0" lang="en-US" sz="33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219" name="Rectangle 7"/>
          <p:cNvSpPr/>
          <p:nvPr/>
        </p:nvSpPr>
        <p:spPr>
          <a:xfrm>
            <a:off x="1066680" y="1295280"/>
            <a:ext cx="72662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pic>
        <p:nvPicPr>
          <p:cNvPr id="1220" name="Diagram 6" descr=""/>
          <p:cNvPicPr/>
          <p:nvPr/>
        </p:nvPicPr>
        <p:blipFill>
          <a:blip r:embed="rId1"/>
          <a:stretch/>
        </p:blipFill>
        <p:spPr>
          <a:xfrm>
            <a:off x="463680" y="1011240"/>
            <a:ext cx="839916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Introductions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pic>
        <p:nvPicPr>
          <p:cNvPr id="1147" name="Diagram 5" descr=""/>
          <p:cNvPicPr/>
          <p:nvPr/>
        </p:nvPicPr>
        <p:blipFill>
          <a:blip r:embed="rId1"/>
          <a:stretch/>
        </p:blipFill>
        <p:spPr>
          <a:xfrm>
            <a:off x="566640" y="1639800"/>
            <a:ext cx="7986960" cy="466884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6" descr="View Organization Drill-Down with PAUL W. KETCHUM at top."/>
          <p:cNvPicPr/>
          <p:nvPr/>
        </p:nvPicPr>
        <p:blipFill>
          <a:blip r:embed="rId2"/>
          <a:stretch/>
        </p:blipFill>
        <p:spPr>
          <a:xfrm>
            <a:off x="1062000" y="1739880"/>
            <a:ext cx="1209600" cy="182880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8" descr="View Organization Drill-Down with JAYME R LEITA at top."/>
          <p:cNvPicPr/>
          <p:nvPr/>
        </p:nvPicPr>
        <p:blipFill>
          <a:blip r:embed="rId3"/>
          <a:stretch/>
        </p:blipFill>
        <p:spPr>
          <a:xfrm>
            <a:off x="2968560" y="1781280"/>
            <a:ext cx="1209600" cy="1828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4" descr="View Organization Drill-Down with GREGORY A WELLMAN JR at top."/>
          <p:cNvPicPr/>
          <p:nvPr/>
        </p:nvPicPr>
        <p:blipFill>
          <a:blip r:embed="rId4"/>
          <a:stretch/>
        </p:blipFill>
        <p:spPr>
          <a:xfrm>
            <a:off x="4946760" y="1817640"/>
            <a:ext cx="1209600" cy="1828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6" descr="http://www.tnengineering.net/eweek/images/Committee/regan.jpg"/>
          <p:cNvPicPr/>
          <p:nvPr/>
        </p:nvPicPr>
        <p:blipFill>
          <a:blip r:embed="rId5"/>
          <a:stretch/>
        </p:blipFill>
        <p:spPr>
          <a:xfrm>
            <a:off x="6838920" y="1803240"/>
            <a:ext cx="12096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232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What is engineering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22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23623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According to Webster’s Dictionary: 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ngineering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he application of math and science by which the properties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f matter and the sources of energy in nature are made useful</a:t>
            </a:r>
            <a:br>
              <a:rPr sz="1600"/>
            </a:b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people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4" name="Rectangle 18"/>
          <p:cNvSpPr/>
          <p:nvPr/>
        </p:nvSpPr>
        <p:spPr>
          <a:xfrm>
            <a:off x="3062160" y="776160"/>
            <a:ext cx="575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Arial"/>
              </a:rPr>
              <a:t>Engineers apply math and science for the betterment of society through: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  <p:pic>
        <p:nvPicPr>
          <p:cNvPr id="1155" name="Diagram 20" descr=""/>
          <p:cNvPicPr/>
          <p:nvPr/>
        </p:nvPicPr>
        <p:blipFill>
          <a:blip r:embed="rId1"/>
          <a:stretch/>
        </p:blipFill>
        <p:spPr>
          <a:xfrm>
            <a:off x="3048120" y="1590840"/>
            <a:ext cx="5767200" cy="3730320"/>
          </a:xfrm>
          <a:prstGeom prst="rect">
            <a:avLst/>
          </a:prstGeom>
          <a:ln w="0">
            <a:noFill/>
          </a:ln>
        </p:spPr>
      </p:pic>
      <p:sp>
        <p:nvSpPr>
          <p:cNvPr id="1156" name="Rectangle 22"/>
          <p:cNvSpPr/>
          <p:nvPr/>
        </p:nvSpPr>
        <p:spPr>
          <a:xfrm>
            <a:off x="3041640" y="5372280"/>
            <a:ext cx="5719680" cy="916920"/>
          </a:xfrm>
          <a:prstGeom prst="rect">
            <a:avLst/>
          </a:prstGeom>
          <a:solidFill>
            <a:srgbClr val="ffffff"/>
          </a:solidFill>
          <a:ln w="11520">
            <a:solidFill>
              <a:srgbClr val="4f81bd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ove all, engineers are problem solvers who make things work better, more efficiently, quicker and cheaper. 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TextBox 1"/>
          <p:cNvSpPr/>
          <p:nvPr/>
        </p:nvSpPr>
        <p:spPr>
          <a:xfrm>
            <a:off x="223920" y="138240"/>
            <a:ext cx="854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8a44d"/>
                </a:solidFill>
                <a:latin typeface="Arial"/>
                <a:ea typeface="Arial"/>
              </a:rPr>
              <a:t>Salary Comparisons </a:t>
            </a:r>
            <a:endParaRPr b="0" lang="en-US" sz="2800" spc="-1" strike="noStrike">
              <a:solidFill>
                <a:srgbClr val="646464"/>
              </a:solidFill>
              <a:latin typeface="Arial Narrow"/>
            </a:endParaRPr>
          </a:p>
        </p:txBody>
      </p:sp>
      <p:graphicFrame>
        <p:nvGraphicFramePr>
          <p:cNvPr id="1158" name=""/>
          <p:cNvGraphicFramePr/>
          <p:nvPr/>
        </p:nvGraphicFramePr>
        <p:xfrm>
          <a:off x="106200" y="758880"/>
          <a:ext cx="8985240" cy="5927760"/>
        </p:xfrm>
        <a:graphic>
          <a:graphicData uri="http://schemas.openxmlformats.org/drawingml/2006/table">
            <a:tbl>
              <a:tblPr/>
              <a:tblGrid>
                <a:gridCol w="2308320"/>
                <a:gridCol w="1486080"/>
                <a:gridCol w="1744560"/>
                <a:gridCol w="1515960"/>
                <a:gridCol w="193032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areer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llege (years)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verage Salary*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urly Rate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 (thousands)**</a:t>
                      </a:r>
                      <a:endParaRPr b="0" lang="en-US" sz="14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 Food Cook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8,23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.76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smetologist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7,07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3.02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uto Mechanic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7,88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8.21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alto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3,10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5.53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porte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3,27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20.80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ysical Therapist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6,22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6.64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mist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2,74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4.97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terinarian 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90,11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43.32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ccountant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7,43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2.42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stered Nurse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6,53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1.99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harmacist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06,63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51.27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7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1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uter Programme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74,69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35.91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Computer Enginee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91,54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44.01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Mechanical Enginee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80,58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38.74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Electrical Enginee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86,25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41.47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Civil Enginee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81,18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39.03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Chemical Enginee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91,67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$44.07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22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1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etroleum Enginee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119,96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$57.67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3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9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dical Docto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68,55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81.03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9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wye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129,020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$62.03/hr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100" spc="-1" strike="noStrike">
                        <a:solidFill>
                          <a:srgbClr val="646464"/>
                        </a:solidFill>
                        <a:latin typeface="Arial Narrow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59" name="AutoShape 8"/>
          <p:cNvSpPr/>
          <p:nvPr/>
        </p:nvSpPr>
        <p:spPr>
          <a:xfrm>
            <a:off x="8359920" y="4413240"/>
            <a:ext cx="539640" cy="544680"/>
          </a:xfrm>
          <a:prstGeom prst="upArrow">
            <a:avLst>
              <a:gd name="adj1" fmla="val 46667"/>
              <a:gd name="adj2" fmla="val 54102"/>
            </a:avLst>
          </a:prstGeom>
          <a:solidFill>
            <a:srgbClr val="33cc3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60" name="Text Box 9"/>
          <p:cNvSpPr/>
          <p:nvPr/>
        </p:nvSpPr>
        <p:spPr>
          <a:xfrm>
            <a:off x="8162640" y="4925880"/>
            <a:ext cx="1029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46464"/>
                </a:solidFill>
                <a:latin typeface="Arial"/>
                <a:ea typeface="Arial"/>
              </a:rPr>
              <a:t>Higher Factor</a:t>
            </a:r>
            <a:endParaRPr b="0" lang="en-US" sz="1100" spc="-1" strike="noStrike">
              <a:solidFill>
                <a:srgbClr val="646464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46464"/>
                </a:solidFill>
                <a:latin typeface="Arial"/>
                <a:ea typeface="Arial"/>
              </a:rPr>
              <a:t>Is Better!</a:t>
            </a:r>
            <a:endParaRPr b="0" lang="en-US" sz="11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61" name="Text Box 8"/>
          <p:cNvSpPr/>
          <p:nvPr/>
        </p:nvSpPr>
        <p:spPr>
          <a:xfrm>
            <a:off x="4043880" y="196920"/>
            <a:ext cx="4958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646464"/>
                </a:solidFill>
                <a:latin typeface="Arial"/>
              </a:rPr>
              <a:t>*</a:t>
            </a:r>
            <a:r>
              <a:rPr b="0" i="1" lang="en-US" sz="1200" spc="-1" strike="noStrike">
                <a:solidFill>
                  <a:srgbClr val="646464"/>
                </a:solidFill>
                <a:latin typeface="Arial"/>
              </a:rPr>
              <a:t>Average</a:t>
            </a:r>
            <a:r>
              <a:rPr b="0" lang="en-US" sz="1200" spc="-1" strike="noStrike">
                <a:solidFill>
                  <a:srgbClr val="646464"/>
                </a:solidFill>
                <a:latin typeface="Arial"/>
              </a:rPr>
              <a:t> salaries from May 2009, Bureau of Labor Statistics Website </a:t>
            </a:r>
            <a:endParaRPr b="0" lang="en-US" sz="1200" spc="-1" strike="noStrike">
              <a:solidFill>
                <a:srgbClr val="646464"/>
              </a:solidFill>
              <a:latin typeface="Arial Narrow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464"/>
                </a:solidFill>
                <a:latin typeface="Arial"/>
              </a:rPr>
              <a:t>**Factor is average salary / years of college</a:t>
            </a:r>
            <a:endParaRPr b="0" lang="en-US" sz="12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Text Box 6"/>
          <p:cNvSpPr/>
          <p:nvPr/>
        </p:nvSpPr>
        <p:spPr>
          <a:xfrm>
            <a:off x="1798200" y="341280"/>
            <a:ext cx="55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Arial"/>
              </a:rPr>
              <a:t>Earning Potential vs. Minimum Wage</a:t>
            </a: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63" name="Rectangle 7"/>
          <p:cNvSpPr/>
          <p:nvPr/>
        </p:nvSpPr>
        <p:spPr>
          <a:xfrm>
            <a:off x="1066680" y="1295280"/>
            <a:ext cx="72662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64" name="Rectangle 8"/>
          <p:cNvSpPr/>
          <p:nvPr/>
        </p:nvSpPr>
        <p:spPr>
          <a:xfrm>
            <a:off x="149400" y="6097680"/>
            <a:ext cx="8835840" cy="642600"/>
          </a:xfrm>
          <a:prstGeom prst="rect">
            <a:avLst/>
          </a:prstGeom>
          <a:solidFill>
            <a:srgbClr val="4f81b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ers have high earning potentials over the course of their career. Since 2000, engineering salaries have increased by ~35%.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</p:txBody>
      </p:sp>
      <p:graphicFrame>
        <p:nvGraphicFramePr>
          <p:cNvPr id="1165" name="Object 10"/>
          <p:cNvGraphicFramePr/>
          <p:nvPr/>
        </p:nvGraphicFramePr>
        <p:xfrm>
          <a:off x="334800" y="785880"/>
          <a:ext cx="8196480" cy="45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6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" y="785880"/>
                    <a:ext cx="819648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7" name="Rectangle 11"/>
          <p:cNvSpPr/>
          <p:nvPr/>
        </p:nvSpPr>
        <p:spPr>
          <a:xfrm>
            <a:off x="2514600" y="518148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46464"/>
                </a:solidFill>
                <a:latin typeface="Arial"/>
              </a:rPr>
              <a:t>Years AFTER H.S. Graduation (based on 1998 salary data)</a:t>
            </a:r>
            <a:endParaRPr b="0" lang="en-US" sz="14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1066680" y="1295280"/>
            <a:ext cx="72662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44160" y="6984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Engineering Disciplines</a:t>
            </a:r>
            <a:endParaRPr b="0" lang="en-US" sz="3300" spc="-1" strike="noStrike">
              <a:solidFill>
                <a:srgbClr val="88a44d"/>
              </a:solidFill>
              <a:latin typeface="Georgia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01320" y="1523880"/>
            <a:ext cx="4040280" cy="73368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Major Disciplin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835160" y="1495080"/>
            <a:ext cx="4040280" cy="733320"/>
          </a:xfrm>
          <a:prstGeom prst="rect">
            <a:avLst/>
          </a:prstGeom>
          <a:noFill/>
          <a:ln w="0">
            <a:noFill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Other Discipline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2" name="TextBox 16"/>
          <p:cNvSpPr/>
          <p:nvPr/>
        </p:nvSpPr>
        <p:spPr>
          <a:xfrm>
            <a:off x="287280" y="2541600"/>
            <a:ext cx="4125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Mechanical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Electrical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Chemical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Civil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Industrial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73" name="TextBox 17"/>
          <p:cNvSpPr/>
          <p:nvPr/>
        </p:nvSpPr>
        <p:spPr>
          <a:xfrm>
            <a:off x="4724280" y="2513160"/>
            <a:ext cx="4125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Automotive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Aerospace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Agricultural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646464"/>
                </a:solidFill>
                <a:latin typeface="Arial"/>
                <a:ea typeface="Arial"/>
              </a:rPr>
              <a:t>Biomedical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algn="ct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uter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algn="ct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vironmental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algn="ct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terial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algn="ct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uclear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algn="ct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obotic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algn="ct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fety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algn="ctr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Text Box 6"/>
          <p:cNvSpPr/>
          <p:nvPr/>
        </p:nvSpPr>
        <p:spPr>
          <a:xfrm>
            <a:off x="271440" y="171360"/>
            <a:ext cx="4975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Mechanical Engineering</a:t>
            </a:r>
            <a:endParaRPr b="0" lang="en-US" sz="33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75" name="Rectangle 7"/>
          <p:cNvSpPr/>
          <p:nvPr/>
        </p:nvSpPr>
        <p:spPr>
          <a:xfrm>
            <a:off x="1066680" y="1295280"/>
            <a:ext cx="72662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76" name="Rectangle 8"/>
          <p:cNvSpPr/>
          <p:nvPr/>
        </p:nvSpPr>
        <p:spPr>
          <a:xfrm>
            <a:off x="385920" y="839880"/>
            <a:ext cx="5047920" cy="41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Concerned with design, manufacture &amp; operation of a wide range of components, devices, or systems: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5745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croscopic parts (nanotechnology) to   gigantic gears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 lvl="1" marL="5745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ting, ventilation, refrigeration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 lvl="1" marL="5745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ufacturing equipment (tanks, motors, pumps)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 lvl="1" marL="5745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ser technology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 lvl="1" marL="5745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omedical applications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 lvl="1" marL="5745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otive industry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  <a:p>
            <a:pPr lvl="1" marL="574560" indent="-1173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r-aided design, automation, robotics</a:t>
            </a:r>
            <a:endParaRPr b="0" lang="en-US" sz="18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77" name="Rectangle 11"/>
          <p:cNvSpPr/>
          <p:nvPr/>
        </p:nvSpPr>
        <p:spPr>
          <a:xfrm>
            <a:off x="500040" y="5805360"/>
            <a:ext cx="8261280" cy="398880"/>
          </a:xfrm>
          <a:prstGeom prst="rect">
            <a:avLst/>
          </a:prstGeom>
          <a:solidFill>
            <a:srgbClr val="4f81b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est of all the engineering disciplines in its range of activitie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  <p:pic>
        <p:nvPicPr>
          <p:cNvPr id="1178" name="Picture 13" descr="http://168.136.161.196/netpub/server.np?original=10802&amp;site=Image_Search&amp;catalog=catalog"/>
          <p:cNvPicPr/>
          <p:nvPr/>
        </p:nvPicPr>
        <p:blipFill>
          <a:blip r:embed="rId1"/>
          <a:stretch/>
        </p:blipFill>
        <p:spPr>
          <a:xfrm>
            <a:off x="5576760" y="787320"/>
            <a:ext cx="304164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Text Box 3"/>
          <p:cNvSpPr/>
          <p:nvPr/>
        </p:nvSpPr>
        <p:spPr>
          <a:xfrm>
            <a:off x="288360" y="225360"/>
            <a:ext cx="4580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Chemical Engineering</a:t>
            </a:r>
            <a:endParaRPr b="0" lang="en-US" sz="33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80" name="Text Box 8"/>
          <p:cNvSpPr/>
          <p:nvPr/>
        </p:nvSpPr>
        <p:spPr>
          <a:xfrm>
            <a:off x="868320" y="5703840"/>
            <a:ext cx="7765920" cy="398880"/>
          </a:xfrm>
          <a:prstGeom prst="rect">
            <a:avLst/>
          </a:prstGeom>
          <a:solidFill>
            <a:srgbClr val="4f81b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ying chemistry to the solution of practical problem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81" name="Text Box 9"/>
          <p:cNvSpPr/>
          <p:nvPr/>
        </p:nvSpPr>
        <p:spPr>
          <a:xfrm>
            <a:off x="427320" y="928800"/>
            <a:ext cx="4987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soline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astic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ergy (natural gas, oil heating, coal)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dhesive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othing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uilding Materials 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  <p:pic>
        <p:nvPicPr>
          <p:cNvPr id="1182" name="Picture 16" descr="http://168.136.161.196/netpub/server.np?original=13938&amp;site=Image_Search&amp;catalog=catalog"/>
          <p:cNvPicPr/>
          <p:nvPr/>
        </p:nvPicPr>
        <p:blipFill>
          <a:blip r:embed="rId1"/>
          <a:srcRect l="0" t="29671" r="0" b="0"/>
          <a:stretch/>
        </p:blipFill>
        <p:spPr>
          <a:xfrm>
            <a:off x="3429000" y="2104920"/>
            <a:ext cx="537696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Text Box 3"/>
          <p:cNvSpPr/>
          <p:nvPr/>
        </p:nvSpPr>
        <p:spPr>
          <a:xfrm>
            <a:off x="279000" y="235080"/>
            <a:ext cx="4578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8a44d"/>
                </a:solidFill>
                <a:latin typeface="Arial"/>
                <a:ea typeface="Arial"/>
              </a:rPr>
              <a:t>Electrical Engineering</a:t>
            </a:r>
            <a:endParaRPr b="0" lang="en-US" sz="33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84" name="Rectangle 4"/>
          <p:cNvSpPr/>
          <p:nvPr/>
        </p:nvSpPr>
        <p:spPr>
          <a:xfrm>
            <a:off x="1066680" y="1295280"/>
            <a:ext cx="72662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85" name="Rectangle 5"/>
          <p:cNvSpPr/>
          <p:nvPr/>
        </p:nvSpPr>
        <p:spPr>
          <a:xfrm>
            <a:off x="471600" y="965160"/>
            <a:ext cx="4813200" cy="29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Play a role in almost everything we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interact with on a daily basis.  They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marL="177840" indent="-177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Arial"/>
              </a:rPr>
              <a:t>design smaller, cheaper, and better: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63504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phone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63504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63504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system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63504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ances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  <a:p>
            <a:pPr lvl="1" marL="635040" indent="-177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bots 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  <p:sp>
        <p:nvSpPr>
          <p:cNvPr id="1186" name="Rectangle 9"/>
          <p:cNvSpPr/>
          <p:nvPr/>
        </p:nvSpPr>
        <p:spPr>
          <a:xfrm>
            <a:off x="468360" y="5446800"/>
            <a:ext cx="8324640" cy="703800"/>
          </a:xfrm>
          <a:prstGeom prst="rect">
            <a:avLst/>
          </a:prstGeom>
          <a:solidFill>
            <a:srgbClr val="4f81bd"/>
          </a:solidFill>
          <a:ln w="20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280" indent="-233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y specialized skill to the design, manufacture, application, installation, and operation of electrical products and systems.</a:t>
            </a:r>
            <a:endParaRPr b="0" lang="en-US" sz="2000" spc="-1" strike="noStrike">
              <a:solidFill>
                <a:srgbClr val="646464"/>
              </a:solidFill>
              <a:latin typeface="Arial Narrow"/>
            </a:endParaRPr>
          </a:p>
        </p:txBody>
      </p:sp>
      <p:pic>
        <p:nvPicPr>
          <p:cNvPr id="1187" name="Picture 11" descr="http://168.136.161.196/netpub/server.np?original=15934&amp;site=Image_Search&amp;catalog=catalog"/>
          <p:cNvPicPr/>
          <p:nvPr/>
        </p:nvPicPr>
        <p:blipFill>
          <a:blip r:embed="rId1"/>
          <a:srcRect l="0" t="11084" r="0" b="8183"/>
          <a:stretch/>
        </p:blipFill>
        <p:spPr>
          <a:xfrm>
            <a:off x="5353200" y="1009800"/>
            <a:ext cx="305244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2:34:42Z</dcterms:created>
  <dc:creator>Eastman</dc:creator>
  <dc:description/>
  <dc:language>en-US</dc:language>
  <cp:lastModifiedBy>walmart</cp:lastModifiedBy>
  <dcterms:modified xsi:type="dcterms:W3CDTF">2014-03-21T12:19:44Z</dcterms:modified>
  <cp:revision>1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ECMExceptionNumber">
    <vt:lpwstr/>
  </property>
  <property fmtid="{D5CDD505-2E9C-101B-9397-08002B2CF9AE}" pid="3" name="ECMLegalHold">
    <vt:lpwstr/>
  </property>
  <property fmtid="{D5CDD505-2E9C-101B-9397-08002B2CF9AE}" pid="4" name="ECMLegalHoldNumber">
    <vt:lpwstr/>
  </property>
  <property fmtid="{D5CDD505-2E9C-101B-9397-08002B2CF9AE}" pid="5" name="ECMOwner">
    <vt:lpwstr/>
  </property>
  <property fmtid="{D5CDD505-2E9C-101B-9397-08002B2CF9AE}" pid="6" name="ECMRecordsMgmtException">
    <vt:lpwstr/>
  </property>
</Properties>
</file>